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D29-B061-483F-B480-C1B91CA3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BB7-E78A-4D8E-909D-D4D595B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19630-9A20-492D-91C0-CEAD396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3FB13-3FCD-45D0-9B01-C01ACFF1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2764-EAD0-4235-9DAC-FECDEA7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A3F0-961B-4727-80E3-22BF05F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7EEB2-ADB6-47ED-977A-28F46F6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8785E-DC36-4831-8918-7ADA29C9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643A1-37A9-45D4-AE22-991F23B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E5F3D-F3FE-4FF7-AFB9-C956764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F1CB2-259A-4070-A3FB-3B2D8677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DCE7C-6CA3-4A4C-BAC2-BFE5296C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F4C-4715-460A-99F8-F32090A3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0F89E-911B-4E58-B5F4-3200EB5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98004-AC4A-4A27-AF6C-9A8E4FED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24B37-1D45-4F25-B10A-27A17B7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39C8-5143-4EE4-885E-9B93590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67E3-F3EC-4742-A49C-0B3589F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22C42-51A7-43EA-B641-5A88459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1DBBA-D1E7-457C-AEC9-21B795D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5B931-AC07-4077-808F-B2B3D3D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1344-49CE-4A6C-9C2A-50D78E5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69E87-E75D-4AA6-93AE-3323748E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7FA-C93A-4420-86DD-5D2B086C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306B-EF76-4B6C-8E85-8B01CB1C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8EA46-1782-437B-B1B1-9E5CEEF2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06C4A-D940-400F-A848-3DC7D5B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630E-D320-4E4C-A366-2C3F535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A8514-DC3D-4237-9C32-2C8BB6B5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FF128-C227-471A-AF7F-35C71127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4DB5-2A66-4402-81E7-7ACAE94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EDBA0-B5F6-4444-838E-33E7E85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2AE0E-47D2-4123-8B89-BBAE186B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81C21-B1A8-4CD3-B9F9-E6BF1A0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58D-353D-42D4-BEBA-99FDEB4D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5A9F-3D47-43C0-BB20-692C953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95739-5AB5-48CD-8A98-3EE48CBD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EA1A9-D9EF-4A2B-B88D-05DD44A5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2427D-5D13-4D0A-902A-B5455F6A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55F3-2521-4426-859E-E774DF3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4A21-E99B-41BB-92EF-911237C2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C5478-B49D-41FF-B992-73B7A31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8B05-D35D-4869-A1DE-5B9F4DC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706CE-B684-4909-AA0B-046E09BD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7B37A-2899-471C-B56A-A88E4800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ADD-C956-42D0-BDF4-E940DD3D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42CB4-1709-436C-A6CC-466B270E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F87FB-09D9-4463-8055-C93D9A1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2A61D-F1BB-4206-BD84-3AD3F46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B2FEC-65E8-4073-94B7-E17B95EF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D4FE5-8C43-4D5E-8D76-E87E57F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59AD6-1D9C-4D40-80F6-CD589A5D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0D1FB-2419-4C67-A149-7CB9DA8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D0D03-C42E-4C61-AAF9-D218F754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A749A-2078-469F-B68A-F28D7DC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FBD7F-D247-4311-9307-EF5551EE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7A2-18C6-4279-AF50-C981D5D3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319AE-8A05-4DA8-B25D-C2C8C7F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12AB8-B24A-4002-9CE7-41C40F91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F66C0-8217-4B34-BFBF-7AE341CB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3BCC3-4982-4636-938B-98499FB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0E476-5030-4265-B470-4430D7F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C553C-131D-4257-8A85-13309689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0F5FC-E7EA-40F1-B3D5-21F62BFC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F40FF-DB7B-4CE9-846F-0C6CD225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99BC9-8BAD-41C2-9012-9B08D2DC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79072-0381-4269-8EE4-9AAA192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CAE-B7E9-427D-A3BA-C44F444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667CE-F71E-4133-8E55-24583FF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5B2D3-AB3B-4B61-9DA5-573E0443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3F236-4853-4B91-98BB-4728F18F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EA00B-5B45-4CDD-8764-67334071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56659-7068-42C3-BD5F-4D4B417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B086E-51CC-44C8-9E16-8566B97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B600D-4563-401C-8B7D-F2ED7C4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9281D-133C-4A52-A159-4BCD9602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3D8AC-BF4D-4787-99C2-3D4D05B0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92886-6A00-4206-BAA3-A52D9CF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AAED-43D6-4F91-83DB-D006963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4992C-4753-4389-9DEC-B504D24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90A0F-8648-492F-B1E6-0182E4C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A880F-F589-4385-961B-11FA797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2C83E-3DBB-423E-A6AE-B6FCE39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9071B-621E-4332-B8C3-DDD226EB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340B1-EC0B-45F1-9286-98625EA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838EB-50E7-4450-918E-5D00C36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4DD00-3ECB-4D0F-9B2F-4171FF4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6E97F-CCF8-40B0-9CA5-2016DFB5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ADF08-FD04-4B31-A8B0-DB39889E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F9AB-1991-4991-AF2E-5CFA7DC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FA767-D296-4B9D-809C-F70FB326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B5E99-6878-4530-BD4D-1E698F08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F8C66-4C61-4640-8F51-8B2EFA3E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435B6-A4A4-4E49-ADD1-C5EEA5D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E1DD6-4C23-405A-B03F-1A4A5BB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05B10-1CF0-4E5D-A7A8-FE3C834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208B7-1574-43AE-A8F7-D7F232C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3783C-C372-4291-881F-5F46918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EB128-2430-4F0D-90A0-28C5179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2B420-F7C8-4A15-8813-DAF1128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055-07AA-466C-840E-9F5F750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15E59-B603-48B4-95D9-2478C57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B2E1D-19D5-4D0A-86C2-C188E051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25306-2CCD-468B-B0C0-A10BCA10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A36BA-FDD3-482B-9AB0-B312F01F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97629-9972-4DDE-B778-65BF4BB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B3D7A-0B11-43D8-91F4-C3C8636A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8C771-A86A-4233-8E1D-543512D0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4E2B7-8C14-41FC-AC81-3A38F89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DDDF8-D01A-498D-B436-A3FA62EB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BFC91-B7D8-451D-8BFE-181EBD4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775-EF7B-4FCB-B544-CAA48CC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785-20DF-4DA5-B9BF-CCFC168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C0681-BAAC-422E-8023-87AD9AF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890AA-3FC7-41A3-AFC3-9BFE98C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9EA35-6944-471A-B98F-6EA723F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B340C-482A-4FAC-95C5-B2E7211A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56A53-4934-4714-94DD-0F34312C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E51CF8-B3AB-4642-8491-5D1C9945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75DDF-9E45-4D0F-A533-E7248BE6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087BD-2D97-46DE-96EA-0249260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F38F7-324E-4C03-9261-BBB16FD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FDCAC-0BBB-469D-9057-63AE4318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7D0-0EC0-4D3C-B41E-82EF17F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4609C-844F-4C98-B07F-1259166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A0880-1AF7-4505-84C8-56A3D4A8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116E9-6EEF-4ACC-828E-6A2D0F3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EEF1F-8D4E-45EA-A8AE-4028DD8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A62C0-B160-43A1-966C-55B872EC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17C72-87BF-4821-A414-D8908F1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13D14-335F-4E65-9109-2320DF7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D85D7-3587-4801-99E4-19696484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2EA32-E496-4321-89FA-EDEA40AE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35782-D11F-4148-AFC2-51F0C34A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96B-CC9B-4CE7-AC41-61AEB18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660A5-F075-4417-B2AF-7680739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638B0-F79A-4C16-A1A7-0C29979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8A98D-E1E9-45DD-9E55-B895E483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964B6-03C8-4413-9D56-C1AAD33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6AF50-84C2-48CC-995B-791FFB7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BA90F-5F70-41E9-A62E-F78A6C9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CF1ED-97D5-4302-9FEE-BCBCCBC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BD3C1-66FE-4F36-AD7E-1FCD8147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D951E-DF2D-4A28-B658-A46A2DB5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A82DD-5B33-45B7-876C-4FCB061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A5B6-D07D-4279-9BCA-2D6177F2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DAEFC-AF64-41CF-8371-B42D71C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55590-ABA6-4BEA-8228-310F6CC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606E8-AA13-4EAF-87B5-9D0A9871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71550-DAAF-49DA-BE0C-E1042241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3D090-E059-4C56-86D0-9F947CE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C4217-872E-4E8D-BE15-42B10D0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63ACB-B1A7-4F99-945C-5AC9D14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C9DFE-4919-4D7B-AF35-94163A7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06DA5-92D7-495F-8852-1EE60F0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3F474-BDA2-4B52-AD28-83356818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CF2-B3ED-44BE-8868-6F6CBB48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38C5D-88E5-4673-BFE3-C5E41872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302C0-9AF7-45FF-A07A-D5E26A63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E4E23-65E7-4DA3-8582-1735706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08C02-A0A5-46CB-8B8D-2B528E4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8473F-DCDC-427C-A269-B06A8EB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F2D65-9B58-4F16-BE43-F664AD2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27474-B462-4F9E-B616-43494056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593D4-B621-4914-8F13-811FD55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AE7B6-9C10-486B-802F-0BD9DC1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EE50E-FB31-4018-A6B5-38BCA81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800E-D00E-449F-8BA3-07E4B57F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D80DD-4464-4D16-BF1C-6AD79FA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E3C76-4619-4515-9C4C-612E3B10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3BCB0-47B2-4DCF-B080-BD690A0E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A2B02-0620-464A-AFA1-363D6EE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6B8411-B172-481B-A407-ADEB7EF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0AED8-FF2B-4C90-AC26-9BD1047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92EEB-E5DE-4121-8883-77E9D5DC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76377-4393-4FC4-874B-DF3FD26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040A0-7630-465C-B047-02549DF9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FFB9F-702F-482F-8E83-85FAC83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0B05-2A9A-4FD5-8AC1-C014DC24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11BC1F-1B25-4512-819B-6A35822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E510C-EFB9-4C46-9492-F8837D2F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78F900-A28F-4171-B686-7E326ED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CBB25-3E60-4424-B6FA-46BCEB41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EAAF7-42B8-4BE3-96C0-5F74C9D6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8CADE-50CE-431A-8181-BA2F4392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75113-39F3-40B0-8963-ABEFE31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FE504-097F-4232-BE6E-FCCE22E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95B6AF-F3DE-4FAF-9FBB-854F203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0C1D90-2678-4B55-81F3-79E057E7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40BB-53D4-4541-89F1-80696C43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BDBA3-C455-4DD1-8E8E-9BC69EE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C70BF-B471-4C99-B3E9-750271B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D4B4FF-8A17-4FED-81F2-4F559AE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F6CA4-D6CA-40F3-AFC4-18E72DF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D8A28-6CDF-45F7-B4AA-001745AC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754490-72D1-42B5-97BA-D5006C57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4345F-AAA9-4797-9504-CE445224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23023-A635-46D6-BB1D-FBBC192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AF67E-DAD4-4AFA-8465-D233337B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912657-7856-4295-9E21-5721CA5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0C00-4E4E-486F-B6E8-42CD1F77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4BA184-7005-46E0-BE88-5A90D15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0CA80-B509-43C9-B940-2C66010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316D9-ECF2-4D5F-9BCF-D0991E3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CC8E03-3DF5-412F-BC47-C2D1E85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6B2F9-CB41-4F8E-A12F-8CCE606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2F36BE-28C0-455F-A0FA-4813049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BEF73C-49FF-4FA6-BC5C-9E438A3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ECEBF2-D1B0-4FDE-BB18-F953EE9D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C540B3-E8BD-4B5D-A974-470D2E9C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30CC2-DAAC-44D1-8530-D30AE2B1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278C-B528-4DCB-ADAF-430ED16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730ABD-1C17-4CB4-9D62-8F03AF57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AB11D6-FBA1-4C93-B0C2-0BC626F6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1103A-0D46-4503-A06F-135FFAF1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B3026-DB9F-44F0-9B2E-630BE4B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ADCA7A-77C9-4C47-995C-B581D51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B3E2DD-14EC-417D-9E2E-0C253BD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AAC42E-EABA-4E92-9C92-E4C0B5E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8C6F1B-D547-4875-BF35-F6A0112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153061-6410-4B3F-94C4-E3CE82F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17A979-A9CA-48E9-9F7F-F5543980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873-7F30-419B-84F1-79C012A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75E7-4C14-4562-BAA2-8A18E7E5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44FFE9-D25C-44C9-8C78-F0D11A38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1A92AA-ED6B-4D45-92A8-8B14E3AF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DEE0E6-844C-4741-9922-42ECFDF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D97852-8263-43A5-B8AF-36B271B9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92093C-3785-401D-AB8A-79C248BA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83DE6E-45E5-4B4D-8984-B5BD1661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722817-83BB-40FF-8850-E6EB02B9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6875AD-775B-4881-B5EF-A3A4180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0D7F72-DA23-45EE-B596-1E14BAC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CC9EA4-7303-436A-8B79-5484C6F4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0E32-E4A8-4BBA-AE7F-6EFED52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5B6A94-B8D7-4D6D-AABA-595F8B4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B4BE6-CBF5-41DB-869E-EE607A26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0E2CCE-E3A7-46B8-B59D-97C16D35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149E52-CEFF-4971-982B-FD4FACCA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AF19B3-592C-4999-A145-1B9A2CEC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E4158-71C6-40DC-97C3-9CBBAD61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FB6098-5B32-4324-A6C9-9AB7DC8E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28A7FA-029C-43E4-AB56-63EEC24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A2371A-D9EE-407B-874E-B0F5119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CD561F-7B1E-4A29-A52F-45D3D53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304A-F3B4-488E-B830-FB5D1FB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E455AD-13F4-4B5E-A90C-EEBB18E9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05B400-E5C6-4688-AEC4-798F07C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5B446A-3EC5-4723-BA63-ADA0207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55BAF9-D32B-4758-8AEE-14512C79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C7A044-F8BD-44E1-B1FF-20A03372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ABC2B9-F2F0-46B3-A64B-479D7BA4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E1304F-5045-427D-96DF-6BD2126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E04AB-DE1F-4F39-BE50-465EEE0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4B0B41-C9D3-4D7E-87FF-4698B2A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33AC54-9902-4B60-B3F3-8859F3D9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DAB4-77D2-47DB-80A6-F3CB231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4026E5-4275-4DE5-BED0-571EDD08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BC6A24-2D53-4952-A63F-3E32AAD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186428-872D-422E-BFE1-5C36C6E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C0A284-DFC6-4E25-B855-7F06DB0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092887-58A3-4735-9960-DA9385D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3EAB23-0EE9-4E11-860E-76C992EF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BE22FD-7CB8-40E2-9D3B-145F2377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938AD9-03A7-4FCB-AAE5-0EFF930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EC61C5-C2A1-4798-84E3-6C2FFD4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CEBEC8-26C4-468C-A2AE-3FC14E4C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9602-DDDB-45A2-B2B3-13CDA3C6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16F475-1952-42AF-AF7A-6602D32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6C571F-AB22-4ECD-BF1B-0B7EEBA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FADB52-7ECE-41BF-A231-5D60012F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0CB00F-6C3B-44B3-9F50-3A94120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E17E8D-7E2B-4CFB-97B5-BD951A5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697B61-8B31-4184-A008-E860585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C11B43-989D-407A-ADB8-7766070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0F0604-7404-4E57-B957-23CB8713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B16C95-7CC2-4CF2-A555-605FE1B4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C82996-24F2-4DC2-90D6-CA25E8AB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E57F-769A-4A61-A45C-616EB732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4B799-816E-47C7-BCC0-CD74044F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86D869-658E-4F4D-B632-F2E8126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53A686-F46A-4769-86A2-0F75343B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A9F97F-5263-4F8A-8711-B6D8800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5A46EB-BD60-4536-AF13-D25DBB0B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5EA59A-3B95-44FA-94FF-D8A9C9A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18FBB3-9093-491E-B42D-8A67E93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8622E7-DF96-4623-82E3-23BD90B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A27C9-6398-4819-9BC9-4817683F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8060EB-1422-4916-A046-74DBC849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88F1-210A-4BCE-8592-AD4D8637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96D578-21D1-4EFE-8C40-52CDCB40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DC2482-4D79-446A-9C17-830ABD79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A302B-3A0D-49D9-9477-B7C9F72A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C21E5-1F75-4B85-9396-3D45E67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AF99E3-4357-4B72-94E9-F847D036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66C5D4-79E3-4B17-B570-F3A13BE2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1DD467-6F43-4163-93FD-B3546BC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967F45-EA38-4874-B1D2-CCFC044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A3BBCC-ADD3-4BCA-A869-60DFD98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0E723D-67E0-4C67-8DA7-A2744E9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75F7-23F3-4B5C-BA70-A38CD19A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212D70-40A1-46B1-AC77-3883CFA1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9F313-C6BC-4B69-BC4C-0B7D112D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B89C7A-E3CB-4515-88AF-3A0D3D1B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D8D3CA-33C3-4AC1-B66B-DE6B2AEE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9D17D6-E2BB-4C4E-B63E-C65199C2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9136B5-FC8E-4031-B1E7-D5EA38BB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3C2975-1916-41F5-A144-E1FD059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AB832E-E5E1-420D-9E45-69096C1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E45DA2-6FC8-4EF0-8772-BF440BF1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F3A755-AF22-4AB3-B2B4-93EAAD2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1235-D789-4148-929E-D20D3D6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2C7257-997F-4093-8F82-F9E632B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E213EB-4CB2-4A3D-93F2-CDE4EB3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965872-C691-42B5-954B-489504F9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CEBC08-2ADF-47F7-B20B-8BF057F8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585D5B-D1A8-4CAB-9D1B-868DD14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2B6898-F9FE-47A2-B371-1B89FDF5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CB110B-EDC7-453B-88B0-4EDACB54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CB142B-29B9-4AFC-BF9D-E6BFE2B2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59AF52-1268-4306-980C-E6C5D42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43EFC3-79A3-437C-80D6-E890B512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A10B-54A7-41C4-B439-E76EDC15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62A2E8-D83A-41CF-A290-AE9CA4D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032714-7F9D-4813-95A0-4477687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5D6755-1DB4-43E7-A682-2A72419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D12411-43C1-4847-87D8-A03C753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89AFBD-79D4-460E-AD86-D5B0F4A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E4EBA2-646B-4902-8811-77F5DF8B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BE9C8C-F2D5-4E34-9B91-79877643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C3255F-3E0D-49FE-BC76-DF6B2BEF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0BB725-8ADD-4316-974E-E6F78EF5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ABC987-1770-42BB-BC73-BE9D12E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D0B-5F73-454F-A93B-09E9FFED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A60B-1614-4D16-A97C-07C456AA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D812EE-03A0-4113-B8BE-B9C8DB6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EC9B46-C73B-4774-BE77-CAF9EF6A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499EE6-0217-4710-83CD-A662DA0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D279B7-0841-4EB3-B7B9-EE73170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293B35-DEC8-45A0-B6EC-7E07A2FE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11B158-3F8E-4074-B4E0-FC5E1D2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DA65AE-1095-49CD-8C92-D0DCB62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038CFA-0DFB-432C-A4B3-8C7D8CA0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E91683-DCEC-4BAC-9584-7B719E62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B7F89F-990D-4246-9A90-6F696C16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0424-144A-4450-B912-236FBF8C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626136-9F63-453C-ABDD-A4D33B0B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887203-6760-44D5-8A1F-BEDA28FF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EDF3A9-E952-4EC8-8361-4F3320FC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EC05C1-8255-4368-BF49-E7CF8F6A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E92E93-70D2-498A-A985-DBEE2F3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53709C-D684-49D1-BE30-62B6F24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A255B0-3C81-418A-A223-5A0FEC5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7C074D-7FB9-4CE0-88F8-84E3BAE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210EF7-F07F-4BC5-A772-5540C83E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29A370-DB72-41B2-8D29-E56853B5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C504-AA60-4318-AB3C-08B7089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BBBC86-5BE2-4177-9831-A7829DAB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233CAB-F436-4DED-B110-647858C2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77527F-3AD0-4DAB-8416-2C39046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D629D2-04B3-4BAB-BEE1-854A67C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7AAC7C-66EE-4FF4-A166-EAE528D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D55A6A-0D82-481A-AFE0-37F5F88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E63D3F-3753-4DBD-A719-3057F33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2C1F23-2FB2-42BE-A354-86435F9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398326-68BC-44A1-BC86-B7F99B2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E3FBF9-CBD0-496A-A13D-46D7A22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6CF2-2D2A-4FFE-9D2A-5F826B4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518D2D-B4EB-4237-BD51-C1828A5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7FF2F4-B43D-4E61-A9B5-AD69EDFB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570600-96E0-470A-8089-4FE972DB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B51E5D-6D64-4294-A6DE-40C35BC4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976AD2-C854-4091-A49E-3008A03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67D64C-93B6-4DC4-891B-73AC7DC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35DDC3-02A5-4355-81E6-61E3D16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CD013F-0232-4112-B63C-531B065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80F725-60FB-4FA4-AEDC-2569A89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41670A-3540-4E84-A190-4AFB44F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05D2-9C11-49F4-B54B-B6EAFB1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1C6B42-D209-4457-A0AC-7B0CC78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3FD472-1AA7-428B-8193-BC1A4D7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0C0BB8-64C6-48C3-A943-460817A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DAA632-2FBB-4771-AE4C-079F7C9C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C1D627-FD4E-4B73-B9F3-5EE825D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2445A4-B807-4F5C-81E0-DBAB5CE6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6D7A6D-3AB1-41D4-8ECC-F9732A9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97CC13-F740-4DA4-91CF-D80E8CC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6206C3-4B18-4B17-9E39-F57FC0B7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1875A7-A1C8-4DBB-9670-C9B4E12B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70FD-3EFF-45E2-BB70-5CFF89F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0AABF5-0FA9-450B-A372-6760AFEF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222AA7-06D8-4DEE-976C-EA37E48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119D68-9AFA-47CF-AEB3-2A17494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D3B9F9-4114-407A-8AEF-590314B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75C991-FB90-4AA6-B53C-5B5F8818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3530B9-6B48-4161-976A-082EB615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527CC5-EE00-431E-9975-A54D4216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100A-49CD-4C75-A6D3-8E7E279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4EE7-CDC9-4558-8784-8DD4FCF2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1137-1B84-4CB4-80EE-A423E63C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3C11-6E5E-402B-B9D4-D459946C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930-E19D-412E-B67A-9705F2D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CF95-897B-43E1-9FD5-B43ABD17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F8BF-8088-48F8-BC14-390B99FA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EEDB-FE9F-4DC2-9393-197A3CF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B726-E845-4520-8761-DC45A00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5629-1B99-4E7C-B5D2-1A16F4A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60CA-2F77-41CB-8E95-52CD81C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BFC2-B172-41CA-A5F8-4F6614C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9E131-9B91-4416-886B-DCC32AB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9AD1-5D67-4046-A7D5-9E8D1CD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4EE1-300E-4696-8AC9-FE6235B7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79D-0FAD-44E9-B278-8C117FF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3797-5C0C-47A7-BB38-42257B87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D1BA-7627-4D3B-883E-E9C44E7A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D9D1-14BA-437C-BFCC-CCAB74E5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B2D3-3C77-41F9-94C9-11BE3EB7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5445-011D-4161-A6BE-C093D38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74E6-B6CB-4728-B0BA-EC4574DF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1035-3652-421B-B36F-29903B4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485E6-4FA5-4CFE-8D65-CEFB2EA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0F1CA-C8D1-4FB9-9B7A-802E29E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75D0-1808-4155-A4F8-97C07C7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88D-3AE2-44D6-AAD2-C859A7F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CE38-4C42-49FD-AF80-8EE69EB1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1DBF-A230-4668-8E9A-937C85E8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ABBA9-0556-4870-B943-A435011C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3594-C969-4446-9D95-BA6A9927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DE096-A887-4706-BD75-0BF1A60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578B-79A1-4DDD-B478-7C39B43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71EB5-7A21-4EC2-A13F-3ED775F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1902-951B-49D7-9ED9-978B92F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49FD6-931F-413F-B2BF-D55622B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6714-4EA2-4E98-9DEE-6792C3C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6D5-F785-4F4F-B50B-1DD4670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5D99-9287-4149-9A3D-4ADA085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594E8-3F85-4F98-AB6D-FEEEA06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71F0-354A-44E0-8EE6-D17322E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BBF29-7424-441D-9EBD-1B21D6E9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3966A-3AC8-47E1-B42F-28610159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89494-BD74-4603-A90F-FD893BD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5FB7-6A83-4634-BC32-5005C9B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CEC51-189C-4B4E-85E5-B968C9D9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C19BE-416D-4C64-A121-D29717B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C3EF-A386-4C5F-B684-0E8C7CAD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CC9-FB26-475C-9948-12267E0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A43F7-C306-4BF6-8C60-BAEB6FCC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D075B-E7B5-4D73-AD7C-AC8669D0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A208D-9CA3-4875-B39C-EF262DC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99BEE-9389-4CDE-B323-A86F51C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C5FA-4233-4165-8508-13740BA6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0CC3-9A43-4A2D-8438-37300951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0DE9-F76C-4F4A-AF96-ADE2D581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742AC-F1D0-4B3F-9C9D-0463983A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86F9A-5624-4C38-A3EE-FA9AEB7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92F3F-948B-4948-803C-7C4AA68F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6D57-4648-4CA2-A2FE-FCBBD9883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7E31-5480-4C85-9ADB-3EFC9E82C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EE5-7167-40DC-B164-24A76FDAF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0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128-57B0-4BDC-BBDD-DFD2E296D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5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AA8-6D21-487B-AB87-CC4C195B6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652-96C4-41F2-9F03-48C758F3F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4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72E-EBAF-4EFD-9A5E-6515B3087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8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5088-42CA-4312-910C-5351A0EFF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3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5C3-32CD-4866-8359-3CAE3FFBE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7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1EA6-AB1E-4B07-8A85-9FC29BDEA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2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461-5F8B-4C1D-98C3-2709516A3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BDE-D044-4FE9-8636-B555E9CAB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6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7EC-6470-462A-9164-A420FA507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1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AA3D-77E7-4CD8-AD98-C4868AEEC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5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4DE-D036-4781-856D-D6813C201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D22-E971-4C35-A734-4DBAA92C2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4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D80-F0F1-4E59-87A4-63636E04F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C6F-9EC9-42A8-A0C8-F4C0AEB94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4AF-1A33-47D7-B6E1-329E4631D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1AF-83C3-4046-9FD9-A9AA27C58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2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8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8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4C17-D0A4-4851-A2E9-213178D12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B2C5-3EF8-497A-91A2-59B57519E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DAF-4348-426C-8713-B91B19703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1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615-C309-4A71-B450-5D1E00E3E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9678-8996-4B3E-B893-843F12CB0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27BD-DC63-4817-BC48-B6F2876EB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BD8-C224-4D44-B0F1-4308E9EA7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2AD-E9B3-4807-B62D-6FD24BC7D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752-65B9-4D13-8844-6094B37CA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0A1C-1FD8-4962-BE6B-7AFABD834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6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E1A6-ECFB-4D27-B308-1FD9D2431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6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8AF-05DD-4A0B-A0FA-31958AF81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78B-C8D1-4DC2-BBF2-CFE48E7F3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8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8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7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8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E43-85ED-4E52-9DE2-DA63DFC5AAE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3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B02-8653-47C0-9633-0BE3D100E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8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18B-F179-4332-9029-B2D28742B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354-550A-4866-8392-AB97FD524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ECC3-5366-4232-ADEB-DC775FD64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52280" y="122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7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roportions &amp; Similarit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Bauhaus 93"/>
              </a:rPr>
              <a:t>Chapter 7 Study Guid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C   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D    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   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    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(12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=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angle Proportionality 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y each side by 1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Picture 4" descr=""/>
          <p:cNvPicPr/>
          <p:nvPr/>
        </p:nvPicPr>
        <p:blipFill>
          <a:blip r:embed="rId1"/>
          <a:stretch/>
        </p:blipFill>
        <p:spPr>
          <a:xfrm>
            <a:off x="2057400" y="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814" name="Line 8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Line 9"/>
          <p:cNvSpPr/>
          <p:nvPr/>
        </p:nvSpPr>
        <p:spPr>
          <a:xfrm>
            <a:off x="502920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Line 10"/>
          <p:cNvSpPr/>
          <p:nvPr/>
        </p:nvSpPr>
        <p:spPr>
          <a:xfrm>
            <a:off x="1143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Line 11"/>
          <p:cNvSpPr/>
          <p:nvPr/>
        </p:nvSpPr>
        <p:spPr>
          <a:xfrm>
            <a:off x="2133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18288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1828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Line 14"/>
          <p:cNvSpPr/>
          <p:nvPr/>
        </p:nvSpPr>
        <p:spPr>
          <a:xfrm>
            <a:off x="13716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Line 15"/>
          <p:cNvSpPr/>
          <p:nvPr/>
        </p:nvSpPr>
        <p:spPr>
          <a:xfrm>
            <a:off x="21337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Line 16"/>
          <p:cNvSpPr/>
          <p:nvPr/>
        </p:nvSpPr>
        <p:spPr>
          <a:xfrm>
            <a:off x="11430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2209680" y="4876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2666880" y="4800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60948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 length of EC is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2:  Determining Parall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the diagram, determine whether M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G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8" name="Picture 4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399120"/>
          </a:xfrm>
          <a:prstGeom prst="rect">
            <a:avLst/>
          </a:prstGeom>
          <a:ln w="0">
            <a:noFill/>
          </a:ln>
        </p:spPr>
      </p:pic>
      <p:sp>
        <p:nvSpPr>
          <p:cNvPr id="1829" name="Text Box 5"/>
          <p:cNvSpPr/>
          <p:nvPr/>
        </p:nvSpPr>
        <p:spPr>
          <a:xfrm>
            <a:off x="525780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Text Box 6"/>
          <p:cNvSpPr/>
          <p:nvPr/>
        </p:nvSpPr>
        <p:spPr>
          <a:xfrm>
            <a:off x="52578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Text Box 7"/>
          <p:cNvSpPr/>
          <p:nvPr/>
        </p:nvSpPr>
        <p:spPr>
          <a:xfrm>
            <a:off x="60958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Text Box 8"/>
          <p:cNvSpPr/>
          <p:nvPr/>
        </p:nvSpPr>
        <p:spPr>
          <a:xfrm>
            <a:off x="60958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Line 9"/>
          <p:cNvSpPr/>
          <p:nvPr/>
        </p:nvSpPr>
        <p:spPr>
          <a:xfrm>
            <a:off x="52578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Text Box 10"/>
          <p:cNvSpPr/>
          <p:nvPr/>
        </p:nvSpPr>
        <p:spPr>
          <a:xfrm>
            <a:off x="56386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Line 11"/>
          <p:cNvSpPr/>
          <p:nvPr/>
        </p:nvSpPr>
        <p:spPr>
          <a:xfrm>
            <a:off x="61722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Text Box 12"/>
          <p:cNvSpPr/>
          <p:nvPr/>
        </p:nvSpPr>
        <p:spPr>
          <a:xfrm>
            <a:off x="70102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Text Box 13"/>
          <p:cNvSpPr/>
          <p:nvPr/>
        </p:nvSpPr>
        <p:spPr>
          <a:xfrm>
            <a:off x="70102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14"/>
          <p:cNvSpPr/>
          <p:nvPr/>
        </p:nvSpPr>
        <p:spPr>
          <a:xfrm>
            <a:off x="65530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Line 15"/>
          <p:cNvSpPr/>
          <p:nvPr/>
        </p:nvSpPr>
        <p:spPr>
          <a:xfrm>
            <a:off x="7086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Text Box 16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Text Box 17"/>
          <p:cNvSpPr/>
          <p:nvPr/>
        </p:nvSpPr>
        <p:spPr>
          <a:xfrm>
            <a:off x="5410080" y="4648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Text Box 18"/>
          <p:cNvSpPr/>
          <p:nvPr/>
        </p:nvSpPr>
        <p:spPr>
          <a:xfrm>
            <a:off x="6248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19"/>
          <p:cNvSpPr/>
          <p:nvPr/>
        </p:nvSpPr>
        <p:spPr>
          <a:xfrm>
            <a:off x="6248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Line 20"/>
          <p:cNvSpPr/>
          <p:nvPr/>
        </p:nvSpPr>
        <p:spPr>
          <a:xfrm>
            <a:off x="54100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Text Box 21"/>
          <p:cNvSpPr/>
          <p:nvPr/>
        </p:nvSpPr>
        <p:spPr>
          <a:xfrm>
            <a:off x="5791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Line 22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23"/>
          <p:cNvSpPr/>
          <p:nvPr/>
        </p:nvSpPr>
        <p:spPr>
          <a:xfrm>
            <a:off x="7162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71629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67057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Line 26"/>
          <p:cNvSpPr/>
          <p:nvPr/>
        </p:nvSpPr>
        <p:spPr>
          <a:xfrm>
            <a:off x="7238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29"/>
          <p:cNvSpPr/>
          <p:nvPr/>
        </p:nvSpPr>
        <p:spPr>
          <a:xfrm>
            <a:off x="63244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Text Box 30"/>
          <p:cNvSpPr/>
          <p:nvPr/>
        </p:nvSpPr>
        <p:spPr>
          <a:xfrm>
            <a:off x="63244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Line 33"/>
          <p:cNvSpPr/>
          <p:nvPr/>
        </p:nvSpPr>
        <p:spPr>
          <a:xfrm>
            <a:off x="64008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34"/>
          <p:cNvSpPr/>
          <p:nvPr/>
        </p:nvSpPr>
        <p:spPr>
          <a:xfrm>
            <a:off x="72388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35"/>
          <p:cNvSpPr/>
          <p:nvPr/>
        </p:nvSpPr>
        <p:spPr>
          <a:xfrm>
            <a:off x="72388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Text Box 36"/>
          <p:cNvSpPr/>
          <p:nvPr/>
        </p:nvSpPr>
        <p:spPr>
          <a:xfrm>
            <a:off x="67816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Line 37"/>
          <p:cNvSpPr/>
          <p:nvPr/>
        </p:nvSpPr>
        <p:spPr>
          <a:xfrm>
            <a:off x="731520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Text Box 38"/>
          <p:cNvSpPr/>
          <p:nvPr/>
        </p:nvSpPr>
        <p:spPr>
          <a:xfrm>
            <a:off x="48769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 is not parallel to 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 8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ree parallel lines intersect two transversals, then they divide the transversals proportio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s and s║ t and l and m intersect, r, s, and t, th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4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25146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33526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33526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Line 8"/>
          <p:cNvSpPr/>
          <p:nvPr/>
        </p:nvSpPr>
        <p:spPr>
          <a:xfrm>
            <a:off x="25146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9"/>
          <p:cNvSpPr/>
          <p:nvPr/>
        </p:nvSpPr>
        <p:spPr>
          <a:xfrm>
            <a:off x="289548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Line 10"/>
          <p:cNvSpPr/>
          <p:nvPr/>
        </p:nvSpPr>
        <p:spPr>
          <a:xfrm>
            <a:off x="34290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8" name="Picture 15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4762440" cy="2381040"/>
          </a:xfrm>
          <a:prstGeom prst="rect">
            <a:avLst/>
          </a:prstGeom>
          <a:ln w="0">
            <a:noFill/>
          </a:ln>
        </p:spPr>
      </p:pic>
      <p:sp>
        <p:nvSpPr>
          <p:cNvPr id="1869" name="Line 16"/>
          <p:cNvSpPr/>
          <p:nvPr/>
        </p:nvSpPr>
        <p:spPr>
          <a:xfrm flipV="1">
            <a:off x="3581280" y="533376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Line 17"/>
          <p:cNvSpPr/>
          <p:nvPr/>
        </p:nvSpPr>
        <p:spPr>
          <a:xfrm flipV="1">
            <a:off x="4572000" y="5410080"/>
            <a:ext cx="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Line 18"/>
          <p:cNvSpPr/>
          <p:nvPr/>
        </p:nvSpPr>
        <p:spPr>
          <a:xfrm flipV="1">
            <a:off x="5638680" y="54860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 8.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y bisects an angle of a triangle, then it divides the opposite side into segments whose lengths are proportional to the lengths of the other two s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D bisec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B, th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Text Box 5"/>
          <p:cNvSpPr/>
          <p:nvPr/>
        </p:nvSpPr>
        <p:spPr>
          <a:xfrm>
            <a:off x="55627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Text Box 6"/>
          <p:cNvSpPr/>
          <p:nvPr/>
        </p:nvSpPr>
        <p:spPr>
          <a:xfrm>
            <a:off x="56386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Text Box 7"/>
          <p:cNvSpPr/>
          <p:nvPr/>
        </p:nvSpPr>
        <p:spPr>
          <a:xfrm>
            <a:off x="64771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8"/>
          <p:cNvSpPr/>
          <p:nvPr/>
        </p:nvSpPr>
        <p:spPr>
          <a:xfrm>
            <a:off x="64771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Line 9"/>
          <p:cNvSpPr/>
          <p:nvPr/>
        </p:nvSpPr>
        <p:spPr>
          <a:xfrm>
            <a:off x="563868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Text Box 10"/>
          <p:cNvSpPr/>
          <p:nvPr/>
        </p:nvSpPr>
        <p:spPr>
          <a:xfrm>
            <a:off x="6019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Line 11"/>
          <p:cNvSpPr/>
          <p:nvPr/>
        </p:nvSpPr>
        <p:spPr>
          <a:xfrm>
            <a:off x="655308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1" name="Picture 12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6267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3:  Using Proportionality Theor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and PQ = 9, QR = 15, and ST = 11.  What is the length of T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4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026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LUTION:  Because corresponding angles are congruent, the lines are parallel and you can use Theorem 8.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1066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Text Box 5"/>
          <p:cNvSpPr/>
          <p:nvPr/>
        </p:nvSpPr>
        <p:spPr>
          <a:xfrm>
            <a:off x="114300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Text Box 6"/>
          <p:cNvSpPr/>
          <p:nvPr/>
        </p:nvSpPr>
        <p:spPr>
          <a:xfrm>
            <a:off x="198108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Text Box 7"/>
          <p:cNvSpPr/>
          <p:nvPr/>
        </p:nvSpPr>
        <p:spPr>
          <a:xfrm>
            <a:off x="19810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Line 8"/>
          <p:cNvSpPr/>
          <p:nvPr/>
        </p:nvSpPr>
        <p:spPr>
          <a:xfrm>
            <a:off x="11430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9"/>
          <p:cNvSpPr/>
          <p:nvPr/>
        </p:nvSpPr>
        <p:spPr>
          <a:xfrm>
            <a:off x="15238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0"/>
          <p:cNvSpPr/>
          <p:nvPr/>
        </p:nvSpPr>
        <p:spPr>
          <a:xfrm>
            <a:off x="20574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Text Box 11"/>
          <p:cNvSpPr/>
          <p:nvPr/>
        </p:nvSpPr>
        <p:spPr>
          <a:xfrm>
            <a:off x="11430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Text Box 12"/>
          <p:cNvSpPr/>
          <p:nvPr/>
        </p:nvSpPr>
        <p:spPr>
          <a:xfrm>
            <a:off x="12193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Text Box 13"/>
          <p:cNvSpPr/>
          <p:nvPr/>
        </p:nvSpPr>
        <p:spPr>
          <a:xfrm>
            <a:off x="20574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4"/>
          <p:cNvSpPr/>
          <p:nvPr/>
        </p:nvSpPr>
        <p:spPr>
          <a:xfrm>
            <a:off x="20574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5"/>
          <p:cNvSpPr/>
          <p:nvPr/>
        </p:nvSpPr>
        <p:spPr>
          <a:xfrm>
            <a:off x="121932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Text Box 16"/>
          <p:cNvSpPr/>
          <p:nvPr/>
        </p:nvSpPr>
        <p:spPr>
          <a:xfrm>
            <a:off x="16002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7"/>
          <p:cNvSpPr/>
          <p:nvPr/>
        </p:nvSpPr>
        <p:spPr>
          <a:xfrm>
            <a:off x="213372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Text Box 18"/>
          <p:cNvSpPr/>
          <p:nvPr/>
        </p:nvSpPr>
        <p:spPr>
          <a:xfrm>
            <a:off x="4572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● TU = 15 ● 11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Text Box 19"/>
          <p:cNvSpPr/>
          <p:nvPr/>
        </p:nvSpPr>
        <p:spPr>
          <a:xfrm>
            <a:off x="16002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(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Text Box 20"/>
          <p:cNvSpPr/>
          <p:nvPr/>
        </p:nvSpPr>
        <p:spPr>
          <a:xfrm>
            <a:off x="19810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Text Box 21"/>
          <p:cNvSpPr/>
          <p:nvPr/>
        </p:nvSpPr>
        <p:spPr>
          <a:xfrm>
            <a:off x="28195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Text Box 22"/>
          <p:cNvSpPr/>
          <p:nvPr/>
        </p:nvSpPr>
        <p:spPr>
          <a:xfrm>
            <a:off x="2819520" y="5486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3"/>
          <p:cNvSpPr/>
          <p:nvPr/>
        </p:nvSpPr>
        <p:spPr>
          <a:xfrm>
            <a:off x="1676520" y="54864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Text Box 24"/>
          <p:cNvSpPr/>
          <p:nvPr/>
        </p:nvSpPr>
        <p:spPr>
          <a:xfrm>
            <a:off x="23623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5"/>
          <p:cNvSpPr/>
          <p:nvPr/>
        </p:nvSpPr>
        <p:spPr>
          <a:xfrm>
            <a:off x="289548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Text Box 26"/>
          <p:cNvSpPr/>
          <p:nvPr/>
        </p:nvSpPr>
        <p:spPr>
          <a:xfrm>
            <a:off x="68580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27"/>
          <p:cNvSpPr/>
          <p:nvPr/>
        </p:nvSpPr>
        <p:spPr>
          <a:xfrm>
            <a:off x="137160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28"/>
          <p:cNvSpPr/>
          <p:nvPr/>
        </p:nvSpPr>
        <p:spPr>
          <a:xfrm>
            <a:off x="2971800" y="2438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arallel lines divide transversals proporti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29"/>
          <p:cNvSpPr/>
          <p:nvPr/>
        </p:nvSpPr>
        <p:spPr>
          <a:xfrm>
            <a:off x="297180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b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0"/>
          <p:cNvSpPr/>
          <p:nvPr/>
        </p:nvSpPr>
        <p:spPr>
          <a:xfrm>
            <a:off x="3581280" y="5257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vide each side by 9 and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1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, the length of TU is 55/3 or 18 1/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4:  Using the Proportionality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B.  Use the given side lengths to find the length of D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6" name="Picture 4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203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7" name="Picture 4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20320" cy="5413320"/>
          </a:xfrm>
          <a:prstGeom prst="rect">
            <a:avLst/>
          </a:prstGeom>
          <a:ln w="0">
            <a:noFill/>
          </a:ln>
        </p:spPr>
      </p:pic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: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3428640" y="213372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AD is an angle bisector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, you can apply Theorem 8.7.  Let x = DC.  Then BD = 14 – 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5"/>
          <p:cNvSpPr/>
          <p:nvPr/>
        </p:nvSpPr>
        <p:spPr>
          <a:xfrm>
            <a:off x="3886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6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480060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Text Box 8"/>
          <p:cNvSpPr/>
          <p:nvPr/>
        </p:nvSpPr>
        <p:spPr>
          <a:xfrm>
            <a:off x="4800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Line 9"/>
          <p:cNvSpPr/>
          <p:nvPr/>
        </p:nvSpPr>
        <p:spPr>
          <a:xfrm>
            <a:off x="3962520" y="4419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10"/>
          <p:cNvSpPr/>
          <p:nvPr/>
        </p:nvSpPr>
        <p:spPr>
          <a:xfrm>
            <a:off x="43434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Line 11"/>
          <p:cNvSpPr/>
          <p:nvPr/>
        </p:nvSpPr>
        <p:spPr>
          <a:xfrm>
            <a:off x="4876920" y="4419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12"/>
          <p:cNvSpPr/>
          <p:nvPr/>
        </p:nvSpPr>
        <p:spPr>
          <a:xfrm>
            <a:off x="3886200" y="5181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Text Box 13"/>
          <p:cNvSpPr/>
          <p:nvPr/>
        </p:nvSpPr>
        <p:spPr>
          <a:xfrm>
            <a:off x="3962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14"/>
          <p:cNvSpPr/>
          <p:nvPr/>
        </p:nvSpPr>
        <p:spPr>
          <a:xfrm>
            <a:off x="480060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15"/>
          <p:cNvSpPr/>
          <p:nvPr/>
        </p:nvSpPr>
        <p:spPr>
          <a:xfrm>
            <a:off x="4800600" y="5562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Line 16"/>
          <p:cNvSpPr/>
          <p:nvPr/>
        </p:nvSpPr>
        <p:spPr>
          <a:xfrm>
            <a:off x="396252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17"/>
          <p:cNvSpPr/>
          <p:nvPr/>
        </p:nvSpPr>
        <p:spPr>
          <a:xfrm>
            <a:off x="43434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18"/>
          <p:cNvSpPr/>
          <p:nvPr/>
        </p:nvSpPr>
        <p:spPr>
          <a:xfrm>
            <a:off x="487692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19"/>
          <p:cNvSpPr/>
          <p:nvPr/>
        </p:nvSpPr>
        <p:spPr>
          <a:xfrm>
            <a:off x="5638680" y="4191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pply Thm. 8.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Text Box 20"/>
          <p:cNvSpPr/>
          <p:nvPr/>
        </p:nvSpPr>
        <p:spPr>
          <a:xfrm>
            <a:off x="563868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bstitu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4 Continued . . 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7" name="Text Box 4"/>
          <p:cNvSpPr/>
          <p:nvPr/>
        </p:nvSpPr>
        <p:spPr>
          <a:xfrm>
            <a:off x="380880" y="251460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● x = 15 (14 – 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x = 210 – 15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24x= 2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= 8.7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Text Box 5"/>
          <p:cNvSpPr/>
          <p:nvPr/>
        </p:nvSpPr>
        <p:spPr>
          <a:xfrm>
            <a:off x="3809880" y="259092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Add 15x to each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Divide each side by 2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, the length of DC is 8.75 un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Segment Leng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 K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║ MN.  Find the values of the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2" name="Picture 4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TW ~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rite the statement of propor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Text Box 8"/>
          <p:cNvSpPr/>
          <p:nvPr/>
        </p:nvSpPr>
        <p:spPr>
          <a:xfrm>
            <a:off x="6858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9"/>
          <p:cNvSpPr/>
          <p:nvPr/>
        </p:nvSpPr>
        <p:spPr>
          <a:xfrm>
            <a:off x="685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Text Box 10"/>
          <p:cNvSpPr/>
          <p:nvPr/>
        </p:nvSpPr>
        <p:spPr>
          <a:xfrm>
            <a:off x="13716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1"/>
          <p:cNvSpPr/>
          <p:nvPr/>
        </p:nvSpPr>
        <p:spPr>
          <a:xfrm>
            <a:off x="137160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Text Box 12"/>
          <p:cNvSpPr/>
          <p:nvPr/>
        </p:nvSpPr>
        <p:spPr>
          <a:xfrm>
            <a:off x="2133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Text Box 13"/>
          <p:cNvSpPr/>
          <p:nvPr/>
        </p:nvSpPr>
        <p:spPr>
          <a:xfrm>
            <a:off x="213372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Text Box 14"/>
          <p:cNvSpPr/>
          <p:nvPr/>
        </p:nvSpPr>
        <p:spPr>
          <a:xfrm>
            <a:off x="114300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Line 15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Line 16"/>
          <p:cNvSpPr/>
          <p:nvPr/>
        </p:nvSpPr>
        <p:spPr>
          <a:xfrm>
            <a:off x="14479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Text Box 17"/>
          <p:cNvSpPr/>
          <p:nvPr/>
        </p:nvSpPr>
        <p:spPr>
          <a:xfrm>
            <a:off x="19051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Line 18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value of x, you can set up a propor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5" name="Picture 4" descr=""/>
          <p:cNvPicPr/>
          <p:nvPr/>
        </p:nvPicPr>
        <p:blipFill>
          <a:blip r:embed="rId1"/>
          <a:stretch/>
        </p:blipFill>
        <p:spPr>
          <a:xfrm>
            <a:off x="5867280" y="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946" name="Text Box 5"/>
          <p:cNvSpPr/>
          <p:nvPr/>
        </p:nvSpPr>
        <p:spPr>
          <a:xfrm>
            <a:off x="20574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Text Box 6"/>
          <p:cNvSpPr/>
          <p:nvPr/>
        </p:nvSpPr>
        <p:spPr>
          <a:xfrm>
            <a:off x="19810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Text Box 7"/>
          <p:cNvSpPr/>
          <p:nvPr/>
        </p:nvSpPr>
        <p:spPr>
          <a:xfrm>
            <a:off x="29718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7.5 -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8"/>
          <p:cNvSpPr/>
          <p:nvPr/>
        </p:nvSpPr>
        <p:spPr>
          <a:xfrm>
            <a:off x="3200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9"/>
          <p:cNvSpPr/>
          <p:nvPr/>
        </p:nvSpPr>
        <p:spPr>
          <a:xfrm>
            <a:off x="2133720" y="35812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10"/>
          <p:cNvSpPr/>
          <p:nvPr/>
        </p:nvSpPr>
        <p:spPr>
          <a:xfrm>
            <a:off x="25146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11"/>
          <p:cNvSpPr/>
          <p:nvPr/>
        </p:nvSpPr>
        <p:spPr>
          <a:xfrm>
            <a:off x="3048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Text Box 12"/>
          <p:cNvSpPr/>
          <p:nvPr/>
        </p:nvSpPr>
        <p:spPr>
          <a:xfrm>
            <a:off x="533520" y="3962520"/>
            <a:ext cx="4190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.5(37.5 – x) = 9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6.25 – 13.5x = 9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6.25 = 22.5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.5 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Text Box 13"/>
          <p:cNvSpPr/>
          <p:nvPr/>
        </p:nvSpPr>
        <p:spPr>
          <a:xfrm>
            <a:off x="4572000" y="3429000"/>
            <a:ext cx="434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rite the prop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dd 13.5x to each 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vide each side by 2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4"/>
          <p:cNvSpPr/>
          <p:nvPr/>
        </p:nvSpPr>
        <p:spPr>
          <a:xfrm>
            <a:off x="30492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MN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J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JMN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Text Box 15"/>
          <p:cNvSpPr/>
          <p:nvPr/>
        </p:nvSpPr>
        <p:spPr>
          <a:xfrm>
            <a:off x="5334120" y="6110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6"/>
          <p:cNvSpPr/>
          <p:nvPr/>
        </p:nvSpPr>
        <p:spPr>
          <a:xfrm>
            <a:off x="5410080" y="6491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17"/>
          <p:cNvSpPr/>
          <p:nvPr/>
        </p:nvSpPr>
        <p:spPr>
          <a:xfrm>
            <a:off x="6248520" y="6110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Text Box 18"/>
          <p:cNvSpPr/>
          <p:nvPr/>
        </p:nvSpPr>
        <p:spPr>
          <a:xfrm>
            <a:off x="6248520" y="649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19"/>
          <p:cNvSpPr/>
          <p:nvPr/>
        </p:nvSpPr>
        <p:spPr>
          <a:xfrm>
            <a:off x="5410080" y="64911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Text Box 20"/>
          <p:cNvSpPr/>
          <p:nvPr/>
        </p:nvSpPr>
        <p:spPr>
          <a:xfrm>
            <a:off x="5791320" y="6262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Line 21"/>
          <p:cNvSpPr/>
          <p:nvPr/>
        </p:nvSpPr>
        <p:spPr>
          <a:xfrm>
            <a:off x="6324480" y="64911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value of y, you can set up a propor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5" name="Picture 4" descr=""/>
          <p:cNvPicPr/>
          <p:nvPr/>
        </p:nvPicPr>
        <p:blipFill>
          <a:blip r:embed="rId1"/>
          <a:stretch/>
        </p:blipFill>
        <p:spPr>
          <a:xfrm>
            <a:off x="5867280" y="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966" name="Text Box 5"/>
          <p:cNvSpPr/>
          <p:nvPr/>
        </p:nvSpPr>
        <p:spPr>
          <a:xfrm>
            <a:off x="20574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6"/>
          <p:cNvSpPr/>
          <p:nvPr/>
        </p:nvSpPr>
        <p:spPr>
          <a:xfrm>
            <a:off x="152388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3.5 + 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7"/>
          <p:cNvSpPr/>
          <p:nvPr/>
        </p:nvSpPr>
        <p:spPr>
          <a:xfrm>
            <a:off x="29718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8"/>
          <p:cNvSpPr/>
          <p:nvPr/>
        </p:nvSpPr>
        <p:spPr>
          <a:xfrm>
            <a:off x="3200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9"/>
          <p:cNvSpPr/>
          <p:nvPr/>
        </p:nvSpPr>
        <p:spPr>
          <a:xfrm>
            <a:off x="1523880" y="3581280"/>
            <a:ext cx="10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10"/>
          <p:cNvSpPr/>
          <p:nvPr/>
        </p:nvSpPr>
        <p:spPr>
          <a:xfrm>
            <a:off x="25146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11"/>
          <p:cNvSpPr/>
          <p:nvPr/>
        </p:nvSpPr>
        <p:spPr>
          <a:xfrm>
            <a:off x="3048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12"/>
          <p:cNvSpPr/>
          <p:nvPr/>
        </p:nvSpPr>
        <p:spPr>
          <a:xfrm>
            <a:off x="533520" y="396252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y = 7.5(22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18.7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13"/>
          <p:cNvSpPr/>
          <p:nvPr/>
        </p:nvSpPr>
        <p:spPr>
          <a:xfrm>
            <a:off x="4572000" y="342900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rite the prop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vide each side by 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TW ~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, SO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 = 7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44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886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BTW ~ ∆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ET and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50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Text Box 8"/>
          <p:cNvSpPr/>
          <p:nvPr/>
        </p:nvSpPr>
        <p:spPr>
          <a:xfrm>
            <a:off x="45720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Text Box 9"/>
          <p:cNvSpPr/>
          <p:nvPr/>
        </p:nvSpPr>
        <p:spPr>
          <a:xfrm>
            <a:off x="4572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Text Box 10"/>
          <p:cNvSpPr/>
          <p:nvPr/>
        </p:nvSpPr>
        <p:spPr>
          <a:xfrm>
            <a:off x="1219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Text Box 11"/>
          <p:cNvSpPr/>
          <p:nvPr/>
        </p:nvSpPr>
        <p:spPr>
          <a:xfrm>
            <a:off x="12193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12"/>
          <p:cNvSpPr/>
          <p:nvPr/>
        </p:nvSpPr>
        <p:spPr>
          <a:xfrm>
            <a:off x="9144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13"/>
          <p:cNvSpPr/>
          <p:nvPr/>
        </p:nvSpPr>
        <p:spPr>
          <a:xfrm>
            <a:off x="4572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15"/>
          <p:cNvSpPr/>
          <p:nvPr/>
        </p:nvSpPr>
        <p:spPr>
          <a:xfrm>
            <a:off x="12193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16"/>
          <p:cNvSpPr/>
          <p:nvPr/>
        </p:nvSpPr>
        <p:spPr>
          <a:xfrm>
            <a:off x="4572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17"/>
          <p:cNvSpPr/>
          <p:nvPr/>
        </p:nvSpPr>
        <p:spPr>
          <a:xfrm>
            <a:off x="4572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12193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Text Box 19"/>
          <p:cNvSpPr/>
          <p:nvPr/>
        </p:nvSpPr>
        <p:spPr>
          <a:xfrm>
            <a:off x="12193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Text Box 20"/>
          <p:cNvSpPr/>
          <p:nvPr/>
        </p:nvSpPr>
        <p:spPr>
          <a:xfrm>
            <a:off x="9144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21"/>
          <p:cNvSpPr/>
          <p:nvPr/>
        </p:nvSpPr>
        <p:spPr>
          <a:xfrm>
            <a:off x="457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22"/>
          <p:cNvSpPr/>
          <p:nvPr/>
        </p:nvSpPr>
        <p:spPr>
          <a:xfrm>
            <a:off x="12193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Text Box 23"/>
          <p:cNvSpPr/>
          <p:nvPr/>
        </p:nvSpPr>
        <p:spPr>
          <a:xfrm>
            <a:off x="30492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(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24"/>
          <p:cNvSpPr/>
          <p:nvPr/>
        </p:nvSpPr>
        <p:spPr>
          <a:xfrm>
            <a:off x="4572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25"/>
          <p:cNvSpPr/>
          <p:nvPr/>
        </p:nvSpPr>
        <p:spPr>
          <a:xfrm>
            <a:off x="91440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26"/>
          <p:cNvSpPr/>
          <p:nvPr/>
        </p:nvSpPr>
        <p:spPr>
          <a:xfrm>
            <a:off x="4572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Text Box 27"/>
          <p:cNvSpPr/>
          <p:nvPr/>
        </p:nvSpPr>
        <p:spPr>
          <a:xfrm>
            <a:off x="12193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Text Box 28"/>
          <p:cNvSpPr/>
          <p:nvPr/>
        </p:nvSpPr>
        <p:spPr>
          <a:xfrm>
            <a:off x="1295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Text Box 29"/>
          <p:cNvSpPr/>
          <p:nvPr/>
        </p:nvSpPr>
        <p:spPr>
          <a:xfrm>
            <a:off x="1066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Text Box 30"/>
          <p:cNvSpPr/>
          <p:nvPr/>
        </p:nvSpPr>
        <p:spPr>
          <a:xfrm>
            <a:off x="533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31"/>
          <p:cNvSpPr/>
          <p:nvPr/>
        </p:nvSpPr>
        <p:spPr>
          <a:xfrm>
            <a:off x="1981080" y="2971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rite propor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Text Box 32"/>
          <p:cNvSpPr/>
          <p:nvPr/>
        </p:nvSpPr>
        <p:spPr>
          <a:xfrm>
            <a:off x="1981080" y="3733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ubstitute val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Text Box 33"/>
          <p:cNvSpPr/>
          <p:nvPr/>
        </p:nvSpPr>
        <p:spPr>
          <a:xfrm>
            <a:off x="1981080" y="4495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ply each side by 2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Text Box 34"/>
          <p:cNvSpPr/>
          <p:nvPr/>
        </p:nvSpPr>
        <p:spPr>
          <a:xfrm>
            <a:off x="1981080" y="51055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implif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5"/>
          <p:cNvSpPr/>
          <p:nvPr/>
        </p:nvSpPr>
        <p:spPr>
          <a:xfrm>
            <a:off x="76212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ecause BE = BT – ET, BE = 20 – 5 = 15.  So, ET is 5 units and BE is 15 un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/Assign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portionality theorems to calculate segment length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Proportionality Theor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lesson, you will study four proportionality theorems.  Similar triangles are used to prove each theorem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s 8.4  Triangle Proportionality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5" name="Picture 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2616120"/>
          </a:xfrm>
          <a:prstGeom prst="rect">
            <a:avLst/>
          </a:prstGeom>
          <a:ln w="0">
            <a:noFill/>
          </a:ln>
        </p:spPr>
      </p:pic>
      <p:sp>
        <p:nvSpPr>
          <p:cNvPr id="1786" name="Text Box 5"/>
          <p:cNvSpPr/>
          <p:nvPr/>
        </p:nvSpPr>
        <p:spPr>
          <a:xfrm>
            <a:off x="304920" y="2590920"/>
            <a:ext cx="3962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line parallel to one side of a triangle intersects the other two sides, then it divides the two side proportio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QS,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6"/>
          <p:cNvSpPr/>
          <p:nvPr/>
        </p:nvSpPr>
        <p:spPr>
          <a:xfrm>
            <a:off x="274320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7"/>
          <p:cNvSpPr/>
          <p:nvPr/>
        </p:nvSpPr>
        <p:spPr>
          <a:xfrm>
            <a:off x="27432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Text Box 8"/>
          <p:cNvSpPr/>
          <p:nvPr/>
        </p:nvSpPr>
        <p:spPr>
          <a:xfrm>
            <a:off x="358128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Text Box 9"/>
          <p:cNvSpPr/>
          <p:nvPr/>
        </p:nvSpPr>
        <p:spPr>
          <a:xfrm>
            <a:off x="3581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Line 10"/>
          <p:cNvSpPr/>
          <p:nvPr/>
        </p:nvSpPr>
        <p:spPr>
          <a:xfrm>
            <a:off x="2743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Text Box 11"/>
          <p:cNvSpPr/>
          <p:nvPr/>
        </p:nvSpPr>
        <p:spPr>
          <a:xfrm>
            <a:off x="31240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Line 12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Line 13"/>
          <p:cNvSpPr/>
          <p:nvPr/>
        </p:nvSpPr>
        <p:spPr>
          <a:xfrm flipV="1">
            <a:off x="5181480" y="34286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Line 14"/>
          <p:cNvSpPr/>
          <p:nvPr/>
        </p:nvSpPr>
        <p:spPr>
          <a:xfrm flipV="1">
            <a:off x="5791320" y="34286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orems 8.5  Converse of the Triangle Proportionality Theor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7" name="Picture 3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2616120"/>
          </a:xfrm>
          <a:prstGeom prst="rect">
            <a:avLst/>
          </a:prstGeom>
          <a:ln w="0">
            <a:noFill/>
          </a:ln>
        </p:spPr>
      </p:pic>
      <p:sp>
        <p:nvSpPr>
          <p:cNvPr id="1798" name="Text Box 4"/>
          <p:cNvSpPr/>
          <p:nvPr/>
        </p:nvSpPr>
        <p:spPr>
          <a:xfrm>
            <a:off x="304920" y="236232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line divides two sides of a triangle proportionally, then it is parallel to the third 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Text Box 5"/>
          <p:cNvSpPr/>
          <p:nvPr/>
        </p:nvSpPr>
        <p:spPr>
          <a:xfrm>
            <a:off x="274320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Text Box 6"/>
          <p:cNvSpPr/>
          <p:nvPr/>
        </p:nvSpPr>
        <p:spPr>
          <a:xfrm>
            <a:off x="27432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Text Box 7"/>
          <p:cNvSpPr/>
          <p:nvPr/>
        </p:nvSpPr>
        <p:spPr>
          <a:xfrm>
            <a:off x="358128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8"/>
          <p:cNvSpPr/>
          <p:nvPr/>
        </p:nvSpPr>
        <p:spPr>
          <a:xfrm>
            <a:off x="3581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9"/>
          <p:cNvSpPr/>
          <p:nvPr/>
        </p:nvSpPr>
        <p:spPr>
          <a:xfrm>
            <a:off x="2743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Text Box 10"/>
          <p:cNvSpPr/>
          <p:nvPr/>
        </p:nvSpPr>
        <p:spPr>
          <a:xfrm>
            <a:off x="31240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Line 11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4"/>
          <p:cNvSpPr/>
          <p:nvPr/>
        </p:nvSpPr>
        <p:spPr>
          <a:xfrm>
            <a:off x="13716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Text Box 15"/>
          <p:cNvSpPr/>
          <p:nvPr/>
        </p:nvSpPr>
        <p:spPr>
          <a:xfrm>
            <a:off x="43434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Q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1:  Finding the length of a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diagram 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ED, BD = 8, DC = 4, and AE = 12.  What is the length of EC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0" name="Picture 4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6477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7:55:03Z</dcterms:created>
  <dc:creator>patspitz</dc:creator>
  <dc:description/>
  <dc:language>en-US</dc:language>
  <cp:lastModifiedBy>Cynthia</cp:lastModifiedBy>
  <dcterms:modified xsi:type="dcterms:W3CDTF">2015-01-19T16:43:13Z</dcterms:modified>
  <cp:revision>18</cp:revision>
  <dc:subject/>
  <dc:title>8.6 Proportions &amp; Similar Triangles</dc:title>
</cp:coreProperties>
</file>